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31D-4B4C-49C5-997B-E6E99013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AFA-62DC-4334-AF14-4F2EDF2D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A71-9655-4735-AF55-FEB527D0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23E-AD75-4442-858E-2A4DE3DA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1BF-9911-4608-9EC9-852AD39A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B54-F07A-4A9F-93D0-63966CC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353-3FF9-4CF5-8DA6-A1FA8E34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D43-6D54-46C0-A7C5-9C618304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28D-6C42-4D03-B3F1-065A3ED5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C08-87DE-457B-8D4E-A5EC718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DA9-7AB0-424D-9061-CD43574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D3D-959A-4681-AFF1-1C5B925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7703-0A40-4ED4-8314-28CEEBF4E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240"/>
            <a:ext cx="746784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-3048120" y="304776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утешестви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5295600" y="300996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Тилимилитрямд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23619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пки ЕЁ мягки, да когти остры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ет ОНА, чьё мясо съела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брое слово и ЕЙ прият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1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5987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НА помнит, кто её корми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ойся ЕЁ брехливой, а бойся молчаливой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на сене: сама не ест и другим не да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2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А семерых волков проведё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Й хвост не для красы нужен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А и во сне кур счи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2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большого осла не получится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ать из мухи ЕГО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й, Моська, знать она сильна, что лает на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3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считанную ЕЁ волк съедае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рикидывайся ЕЮ: волк съес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за то волка бьют, что сер, а за то, что ЕЁ съ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3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ечите бисер перед НИМИ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А грязи всегда найдё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ади ЕЁ за стол, она и ноги на ст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4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752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поёт месяц, а ворона каркает круглый год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точка день начинает, а ОН кончает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нужна ЕМУ золотая клетка, лучше зелёная ве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4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752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1880" y="0"/>
            <a:ext cx="6342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5400000">
            <a:off x="-1638360" y="224748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Физкультминутка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342900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Собрать пословицу 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поговорку из двух половин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соединить половинк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ремя 2 минуты. За кажд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авильный ответ 1 ромаш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66680" y="609480"/>
            <a:ext cx="7086600" cy="2703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блачко "Эрудит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15732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6019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1. Подготовка к путешеств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 30 секунд капитану необходимо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тветить на 12 вопросов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 За каждый правильный ответ - ромашка.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Если не знаете ответ – нужно говорить «ДАЛЬШ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304920"/>
            <a:ext cx="4876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Облако капитанов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0890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5400000">
            <a:off x="-1752480" y="2209680"/>
            <a:ext cx="52578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ефлексия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2120" y="304920"/>
            <a:ext cx="761976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 свидания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43040" y="22824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придумать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итературно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звание своим командам и девиз, сопутствующий успех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время - 2 минуты, конкурс оценивается по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-одуванчиковой систем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лако "Разминка"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ждой команде даё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5 вопрос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 правильный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жно заработ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ромаш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25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04920" y="5105520"/>
            <a:ext cx="8458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блачко "Гости из басен"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Отгадайте одинаковые слова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названия животных, которых можно встретит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в баснях Крылова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–загаданные несколькими пословицам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Чем меньше пословиц-подсказок, тем луч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гадает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первой пословицы – 3 ромашки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 второй –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 третьей –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2361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кинулся бы ОН козой, да хвостик не такой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ЕГО не корми, а ОН всё в лес смотрит.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ГО ноги кормя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30492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Команда 1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48752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4T08:18:34Z</dcterms:created>
  <dc:creator>ТЕХНОМИР</dc:creator>
  <dc:description/>
  <dc:language>en-US</dc:language>
  <cp:lastModifiedBy>ТЕХНОМИР</cp:lastModifiedBy>
  <dcterms:modified xsi:type="dcterms:W3CDTF">2019-04-14T11:01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