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6.jpeg" ContentType="image/jpeg"/>
  <Override PartName="/ppt/media/image15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9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CDE-3C30-4DF5-AE3B-4D983D0E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A26-C24F-4F90-A578-16D51CED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FDF-F764-4CB6-A6CE-E359F511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379-D224-4738-AD2A-0B749B44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CC6-815C-4A45-95A1-0AEE4B8F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05D-C4F2-4BF6-94B1-874B24EC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625-96F7-4906-A6A4-D4299A50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EE2-7498-49DB-BB25-294D03AB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126-ACD8-43AF-97B2-281CAB05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E92-2F8D-41BF-A5AA-0C8DFF1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430-0F97-4CB0-9B55-E7960436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463-F294-40FA-91C6-9E339D42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B33C-3199-497E-B9CB-7652C2550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240"/>
            <a:ext cx="746784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5400000">
            <a:off x="-3048120" y="304776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утешестви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5295600" y="300996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Тилимилитрямдию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23619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пки ЕЁ мягки, да когти остры.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ет ОНА, чьё мясо съела.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брое слово и ЕЙ прият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1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59876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ОНА помнит, кто её корми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бойся ЕЁ брехливой, а бойся молчаливой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А на сене: сама не ест и другим не даё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2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А семерых волков проведё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Й хвост не для красы нужен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А и во сне кур счи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2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большого осла не получится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лать из мухи ЕГО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й, Моська, знать она сильна, что лает на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3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считанную ЕЁ волк съедае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прикидывайся ЕЮ: волк съес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за то волка бьют, что сер, а за то, что ЕЁ съ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3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мечите бисер перед НИМИ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А грязи всегда найдё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ади ЕЁ за стол, она и ноги на ст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4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7524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 поёт месяц, а ворона каркает круглый год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сточка день начинает, а ОН кончае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нужна ЕМУ золотая клетка, лучше зелёная ве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4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7524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1880" y="0"/>
            <a:ext cx="63421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 rot="5400000">
            <a:off x="-1638360" y="2247480"/>
            <a:ext cx="6400800" cy="2362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Физкультминутка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3429000"/>
            <a:ext cx="86104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Собрать пословицу 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поговорку из двух половино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(соединить половинки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ремя 2 минуты. За кажд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авильный ответ 1 ромаш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6680" y="609480"/>
            <a:ext cx="7086600" cy="2703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блачко "Эрудит"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15732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6019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1. Подготовка к путешеств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895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 30 секунд капитану необходимо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тветить на 12 вопросов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 За каждый правильный ответ - ромашка.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Если не знаете ответ – нужно говорить «ДАЛЬШ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304920"/>
            <a:ext cx="4876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Облако капитанов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0890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5400000">
            <a:off x="-1752480" y="2209680"/>
            <a:ext cx="52578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ефлексия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62120" y="304920"/>
            <a:ext cx="761976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 свидания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43040" y="228240"/>
            <a:ext cx="4800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адание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придумать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литературное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звание своим командам и девиз, сопутствующий успех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время - 2 минуты, конкурс оценивается по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-одуванчиковой систем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блако "Разминка"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ждой команде даё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 5 вопрос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 правильный отв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жно заработ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ромаш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5181480" cy="518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25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04920" y="5105520"/>
            <a:ext cx="8458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блачко "Гости из басен"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Отгадайте одинаковые слова 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названия животных, которых можно встретит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в баснях Крылова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–загаданные несколькими пословицам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Чем меньше пословиц-подсказок, тем луч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гадаете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 первой пословицы – 3 ромашки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о второй –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с третьей –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23619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кинулся бы ОН козой, да хвостик не такой.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ЕГО не корми, а ОН всё в лес смотрит.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ГО ноги кормя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1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48752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4T08:18:34Z</dcterms:created>
  <dc:creator>ТЕХНОМИР</dc:creator>
  <dc:description/>
  <dc:language>en-US</dc:language>
  <cp:lastModifiedBy>ТЕХНОМИР</cp:lastModifiedBy>
  <dcterms:modified xsi:type="dcterms:W3CDTF">2019-04-14T11:01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